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405D-928C-48D2-93FC-2644110B2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207A-0920-47D1-9660-E6376426D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80D2-8428-491C-805D-1211CF0E9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D52F-66F5-4270-97D0-971120170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80B04-1811-41B0-B04F-7D18BF9F4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D1088-7779-4BD8-B490-D891E62FC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4532A-270B-40B2-934D-D78512CC0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EDEAD-D668-4159-AA25-B4AFB69B1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16DDC-1218-4FA1-897F-481E265B9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DEA0A-D22D-46B9-BF1C-9BCE707E6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97303-A914-473E-980D-D68F4E30B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8A85-A799-4F9E-A41F-AB420674E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7B645-C52E-4F16-B6D4-049945521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BF935-7E6F-458B-B394-B01F3B364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D09E6-44EF-4A12-81E7-86072E4CA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29921-C519-495F-82DF-426A7FD33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A7CF7-F595-4E2A-99A4-B06DBB380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2E212-0B01-4E64-9F01-8A7D60E46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9E4FC-6569-40A3-8002-BCA09A177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3197C-83DD-4096-8E88-34C30D371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9C90D-BA03-4A9E-856B-72D16384A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3E8AA-362C-4ED1-B3C5-DC6C5FC1B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8D31-060F-49F6-9063-12FABE74B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8388E-CB06-4996-815B-A72ABADF2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02870-9471-41B7-89B8-129CC4703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46F36-398F-48FD-9CF3-57E612DAC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A2AC5-D89F-4527-81E4-6344766FA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CDEB8-D973-49A4-A18D-8D82F7A6F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E182C-E601-4050-8B8D-391445E3C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7808E-D902-4721-A774-699BF82D1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4182E-19AD-4AC5-BFA6-2E39C366C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2A208-310B-4918-A9F1-62AC0C757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6EE73-E75C-4D69-A2CA-5E1A86D77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379A-38F7-4720-8C19-474C3788F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D8385-B044-4830-A5F6-1BA6EDB7B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90A81-5852-4774-80BD-FDFD6160C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C727B-2CE7-427E-9087-AA24A76A8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165C0-772E-42DF-BA75-D7E7286DF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5C946-5B79-44FC-9ED9-F80E271C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38132-4C3F-4697-95D3-8716E28A3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CDCC2-1D2B-48D5-8446-43F352933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6E756-8863-431C-82EB-4000E2826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DF4F3C-51A4-40AB-91FC-BD632AC87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8D11A8-A117-4CE4-B1EE-C3BBFBA5A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FCD2-B538-4614-951D-6DAB66E8C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CD55B4-1930-4F12-95ED-29FA3B472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037702-8357-4EA1-BA11-8DFFCD870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2A61D6-C4ED-4E07-A5BC-0EFED291D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43A428-C259-4FB8-A16B-6674531CC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7A8692-DFBA-48B7-890A-62E737BA2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F1AA3E-4DA3-4AD2-AE51-ADF00C894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01B13F-CB0D-485F-8707-DC335FEF0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85A230-544B-4E63-B91D-EF33B28B8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4C74AE-A726-46D5-BB03-A36A0392C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424250-62B5-41CB-BDC4-45C6446BA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B9D4-B479-423F-9248-C93A05568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E8CFF2-CCC9-491D-901F-35CC778A3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84F6A1-A217-419A-86DB-35443FE92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4B9536-9530-4817-A75A-D813EC386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D1EDC7-6C0A-4174-B5DE-4DC43AC69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624A10-93CF-4E37-9AEC-2617AB74F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79A73A-7AF1-4FD6-B899-8CF2EE19A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06D87A-608D-44F6-923A-155F4BDC3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507A1D-8B9D-4E89-86A3-F0EAF905A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60FDC4-4D0E-49E9-955E-62A8C2754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953FF7-C27B-4B25-9B0A-9B4F69577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10D0-7D81-4F38-9948-24DE46000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283AFE-CDEF-46D4-A53A-B7C412EFD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7A4FE3-51FA-42E8-AC7C-F55C2E6A1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B9E71A-9725-4731-B32F-D94EF481A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B0833B-24CA-4EA5-ADAB-1A4926718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48B96C-8C09-4A24-B5E2-C9F1C6FEF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AA57C4-3F8F-4945-876A-4FE1FDC50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988EF9-434C-421A-A07E-D3B68F50C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4C831E-3C0A-45C2-8EDB-62F44BA89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9D162D-E3C5-40DD-9F80-7C01D1B0C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1F54E5-8C02-4B8E-9C6D-B85443B3A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8850-C189-4E0E-BA53-AF241693C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756D9D-62DF-469E-9054-8EF5A357B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C41192-50F8-43FB-B6FB-AF372A14F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8BD49A-A0EB-4C45-815C-A83B7E2F8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214BBE-1608-4D9D-95A0-E840E15EB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A1CD79-4707-46C4-8916-0B89053F9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0EB7-646E-4350-9917-36B9DA045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12187-7933-4341-943D-2784C554D86A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0FDBE-846B-4902-A7FB-C398F8D3B2C1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D4B1F-4A55-48D7-A58A-248FD2F2BB5E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BCC1F-8172-42F9-A130-C36F65E7B3D2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55F00-73D0-4142-A33A-CF0D1D26B22D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5CC07-18E3-4B8B-AEC8-66142CFAD83E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6A6CD-76BB-4D81-AF77-9950C3A81D16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396720" y="3157560"/>
            <a:ext cx="8375760" cy="187812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Trevor Rei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Geothermal  Energy is gathered from the Earth itself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Originates from radioactive decay of mineral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Or  from solar energy absorbed at the surface of the Earth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Geothermal energy has the same uses as any other fossil fuel, just more efficient and less expensiv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asily Obtained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heel spokes="2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Obtaining this energy releases a mixture of gas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arbon Dioxid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Hydrogen Sulfid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emissions are about 1/6 of burning fossil fuel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Hot water from the sources may contain traces of dangerous element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ercury,  Arsenic, and Antimony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osts can actually be quite inexpensive compared to other energy sourc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cost depends on the way you use it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$0.05 per kWh (Kilowatt-hour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Title 1" descr=""/>
          <p:cNvPicPr/>
          <p:nvPr/>
        </p:nvPicPr>
        <p:blipFill>
          <a:blip r:embed="rId1"/>
          <a:stretch/>
        </p:blipFill>
        <p:spPr>
          <a:xfrm>
            <a:off x="360360" y="152280"/>
            <a:ext cx="8459640" cy="126216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t is used mostly around geysers and the areas it is easily obtaine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But power plants can be built, just a bit more price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ts not commonly used because of a cooling problem of the extremely heated wate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Title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6180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456840" y="1698120"/>
            <a:ext cx="4040280" cy="71604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rbel"/>
              </a:rPr>
              <a:t>SUMMER</a:t>
            </a:r>
            <a:endParaRPr b="0" lang="en-US" sz="23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7" name="Content Placeholder 9" descr="GeothermalHeatPumpSummer2.jpg"/>
          <p:cNvPicPr/>
          <p:nvPr/>
        </p:nvPicPr>
        <p:blipFill>
          <a:blip r:embed="rId2"/>
          <a:stretch/>
        </p:blipFill>
        <p:spPr>
          <a:xfrm>
            <a:off x="0" y="2666880"/>
            <a:ext cx="4572000" cy="363060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644720" y="1698120"/>
            <a:ext cx="4041720" cy="71604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rbel"/>
              </a:rPr>
              <a:t>WINTER</a:t>
            </a:r>
            <a:endParaRPr b="0" lang="en-US" sz="23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9" name="Content Placeholder 10" descr="GeothermalHeatPumpWinter2.jpg"/>
          <p:cNvPicPr/>
          <p:nvPr/>
        </p:nvPicPr>
        <p:blipFill>
          <a:blip r:embed="rId3"/>
          <a:stretch/>
        </p:blipFill>
        <p:spPr>
          <a:xfrm>
            <a:off x="4724280" y="2666880"/>
            <a:ext cx="4419720" cy="350532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4T14:45:24Z</dcterms:created>
  <dc:creator> </dc:creator>
  <dc:description/>
  <dc:language>en-US</dc:language>
  <cp:lastModifiedBy> </cp:lastModifiedBy>
  <dcterms:modified xsi:type="dcterms:W3CDTF">2009-04-28T14:46:26Z</dcterms:modified>
  <cp:revision>5</cp:revision>
  <dc:subject/>
  <dc:title>Geothermal Energy</dc:title>
</cp:coreProperties>
</file>